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4A6C-8737-44E7-9512-660C8DBB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F0DB-6586-4AED-8F5B-9AF3F04B7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C901-F2EB-4D85-BFA4-FE91AC03D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E0E-7872-4388-BC99-B11F9B07A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97C6-A265-4290-8DBA-2CEFBD6B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6735-EDA3-409A-802C-EF2012422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708F-65DB-4B66-B438-2A5A87B84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00EB-41A3-4659-AE8E-C8357A25A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EEE-21A0-4B69-A0C4-47CB1D71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59EB-B4DB-4B1C-B4AF-C17BC9D7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391-2D7E-47E6-A58C-8950664C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2F7-FEBE-4EC7-AE2F-67E087BC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B2E-C81F-4291-AD46-5C63E8A9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3A9-03ED-43F3-B101-677F168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4C6A-D8B0-442B-9A36-92DA478B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5B8-78BC-4E11-8373-48D5EB3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2862-9DB5-423E-9098-F7CBD4CE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3AF8-0B2B-4622-B6FA-7E19634E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D52D-FC7D-4B3F-8C8E-1440548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2818-9933-4AE3-8A10-9222C240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0930-8ABB-4806-B7A3-DE46EE2681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284360" y="558972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оф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. др Владимир Живкови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28060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68360" y="1773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ДУЛ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 СПОРТСКЕ ФАРМАЦИЈЕ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24000" y="2924280"/>
            <a:ext cx="82818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ТАМИНИ И МИНЕРАЛИ КАО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УПЛЕМЕНТИ У СПОРТУ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рашњ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Calibri"/>
              </a:rPr>
              <a:t>Физиолошки фактор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Разлике у функцији ГИТ-а у зависности од старости утичу на апсорпц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апсорпција вит. Б12 је смањена код старијих особа услед смањене активности паријеталних ћелија желу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 u="sng">
                <a:solidFill>
                  <a:srgbClr val="000000"/>
                </a:solidFill>
                <a:uFillTx/>
                <a:latin typeface="Calibri"/>
              </a:rPr>
              <a:t>Здравствени стату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Различите болести могу утицати на апсорпцију и биоискористљивост неких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апсорпција вит. Б9 је смањена код особа са ентеритис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ПРЕХРАМБЕНИ ИЗВОРИ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47640" y="836640"/>
          <a:ext cx="5904000" cy="5824440"/>
        </p:xfrm>
        <a:graphic>
          <a:graphicData uri="http://schemas.openxmlformats.org/drawingml/2006/table">
            <a:tbl>
              <a:tblPr/>
              <a:tblGrid>
                <a:gridCol w="1152720"/>
                <a:gridCol w="1224000"/>
                <a:gridCol w="1224000"/>
                <a:gridCol w="1152360"/>
                <a:gridCol w="1150920"/>
              </a:tblGrid>
              <a:tr h="2779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 витамин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 Витамин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 вита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546520"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аслац, павлака, кајмак, масни сиреви, сардина, рибље уље, жуманце, масно месо, срце, харинга, печурке, парадајз, зелена салата, спанаћ, шаргарепа, купус, карфиол, зрна житарице, црни – комплетни хлеб, сочиво, бадем, орах, банане, лимун, поморанџ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ивски квасац, клице житарица, сочиво, жуманце, купус, шаргарепа, спанаћ, карфиол, лук, јабуке, крушке, кромпир, црни – комплетни хлеб, грашак, млеко, маслац, лимун, поморанџа, парадајз, бадем, орах, печурке, шљиве, грожђе, банане, зелена салата, месо свињско, бубрези, јетра, пасуљ, кикир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имун, поморанџа, шипак, паприка, боровница, купус, парадајз, лук, зелена салата, зелени грашак, спанаћ, карфиол, грожђе, банане, шаргарепа, боранија, јабуке, крушке, шљиве, месни екстракт, млек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ибље уље, жуманце, маслац, кајмак, млеко, павлака, свињска јетр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7720" rIns="277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ље из клица житарица, кикирики, зелена салата, жуманце, маслац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7720" marR="277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тамини и минерали у исхрани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Још увек не постоје препоруке за унос витамина и минерала код спортиста, већ се они и даље воде табелама за осталу попул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портисти треба да знају да интензивни програми вежбања повећавају њихову потребу за микронутријен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нису пружила јасан доказ о побољшању спортске способности након додатка витамина, осим у случајевима када је било потребно кориговати постојећи недостат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о начину исхране спортиста показују да, када конзумирају разноврсну храну богату нуријентима, забележени унос витамина и минерала премашује општеприхваћене препоруке и достиже повећане потребе за микронутријентима изазване тренир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фицит витамина и минерала код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њи унос микронутријената може се јавити код спортиста који су уздржани у храни или немају дисциплинован начин исхране, али и код оних који су на такозваном модерном брзом начину исхр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стоји неколико узрока дефицита витамина и минер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еадекватан унос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ша апсорпција витамин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лоша искористљивост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већана екскрециј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већана деструкција у организм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фицит уноса витамина и минерала код спорти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зрок дефицита који је најлакше препознати је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еадекватан уно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таје услед (фактори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тила живот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вика у исхран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осебног режиме исхран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естих путовања или такмиче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развијених кулинарских вештин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довољне нутритивне едукациј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довољне финансијске потпор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дравственог ст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ређивање потребе за витаминима и минерал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требе организма за витаминима и минералима одређујемо помоћу табеларних вредности које су задате за витамине и минера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rcRect l="14861" t="55910" r="22882" b="18504"/>
          <a:stretch/>
        </p:blipFill>
        <p:spPr>
          <a:xfrm>
            <a:off x="539640" y="3645000"/>
            <a:ext cx="8099640" cy="18716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7"/>
          <p:cNvSpPr/>
          <p:nvPr/>
        </p:nvSpPr>
        <p:spPr>
          <a:xfrm>
            <a:off x="1547640" y="3141720"/>
            <a:ext cx="63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редности које одређују потребе за микронутријен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own Arrow 10"/>
          <p:cNvSpPr/>
          <p:nvPr/>
        </p:nvSpPr>
        <p:spPr>
          <a:xfrm>
            <a:off x="4500720" y="2565360"/>
            <a:ext cx="215640" cy="576360"/>
          </a:xfrm>
          <a:prstGeom prst="downArrow">
            <a:avLst>
              <a:gd name="adj1" fmla="val 50000"/>
              <a:gd name="adj2" fmla="val 5006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дређивање прихватљивог горњег нивоа уноса витамина и минера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хватљив горњи (сигуран) ниво уноса обухвата сабирање доза витамина и минерала унетих храном или пићем и унос путем суплемен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што је нутритивни унос најчешће у дефициту, остаје довољно простора да спортиста тај недостатак надокнади суплементима, а да опште здравље не доведе у риз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rcRect l="26839" t="51801" r="41063" b="8829"/>
          <a:stretch/>
        </p:blipFill>
        <p:spPr>
          <a:xfrm>
            <a:off x="2268360" y="3645000"/>
            <a:ext cx="41752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чена дневна доза нутријен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50560" y="1773360"/>
            <a:ext cx="626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чена дневна доза (енг.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commended daily allowance, RDA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 дефиницији представља количину нутријената која задовољава потребе целокупне здраве популације и код које је ризик од дефицијенције 2–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е узима у обзир посебне потребе физички активних људи, људи с повећаним потребама или пацијената с различитим стањима и боле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бог тог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D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еба критички просуђивати с циљем разумевања потреба различитих популационих група, поготово спорти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Ð ÐµÐ·ÑÐ»ÑÐ°Ñ ÑÐ»Ð¸ÐºÐ° Ð·Ð° recommended dietary allowance"/>
          <p:cNvPicPr/>
          <p:nvPr/>
        </p:nvPicPr>
        <p:blipFill>
          <a:blip r:embed="rId1"/>
          <a:stretch/>
        </p:blipFill>
        <p:spPr>
          <a:xfrm>
            <a:off x="6516720" y="1916280"/>
            <a:ext cx="23986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ке за унос витам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052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20751" t="31127" r="28335" b="10797"/>
          <a:stretch/>
        </p:blipFill>
        <p:spPr>
          <a:xfrm>
            <a:off x="611280" y="1773360"/>
            <a:ext cx="7635960" cy="4895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755640" y="2205000"/>
            <a:ext cx="612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755640" y="3429000"/>
            <a:ext cx="612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55640" y="2492280"/>
            <a:ext cx="612000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поруке за унос минер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560" y="105264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ститут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едицин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А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а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епорук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нос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витам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минера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рудноћ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rcRect l="20751" t="32111" r="27782" b="22613"/>
          <a:stretch/>
        </p:blipFill>
        <p:spPr>
          <a:xfrm>
            <a:off x="179280" y="2133720"/>
            <a:ext cx="873468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324000" y="2492280"/>
            <a:ext cx="784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24000" y="3068640"/>
            <a:ext cx="784836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24000" y="3573360"/>
            <a:ext cx="7848360" cy="503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560" y="1268280"/>
            <a:ext cx="85690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ПШТЕ КАРАКТЕРИСТИК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органска једиње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мале молекулске ма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различите струк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13 до сада октривених врс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растворљиви у води (вит. Ц и комплекс вит. Б) и мастима (вит. А, Д, Е и К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опходни за велики број животних функциј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види слајд 6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2916360" y="4581360"/>
            <a:ext cx="32176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ЧАЈ ВИТАМИНА КОД СПОРТ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чајније место припада β каротену, обзиром да је овај прекурсор витамина А познат по својим антиоксидативним својствим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тити ћелијску мембрану од слободних радикала који се појачано формирају током интензив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је дефицит β-каротена или витамина А већ присутан или је спортиста на нискокалоричној дијети, суплементација је свакако препоручљи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упротном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на примена β-каротена неће побољшати спортске перформансе, а може довести до пораста интракранијалног притиска, оштећења ткива и имуносупресије, као и оштећења плода код трудница, уколико се предози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Б груп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оказало се да сама физичка активност смањује концентрацију тиамина, рибофлави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пиридокс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на 2 начи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мањењем апсорпције у цревима и повећањем излуч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нтензивирањем потрошње активацијом појединих метаболичких путе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у, дефицит витамина Б групе погоршава спортске перформансе и отежава релаксацију мишића, нарочито при максималном физичком напору, због чега их је неопходно надокнади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ође, има показатеља да неки витамини у вишку могу побољшати одређене вештине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пр. тиамин, пиридоксин и кобаламин олакшавају фину моторну координацију и мишићну релаксациј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Б групе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многи спортисти редовно уносе велике дозе витамина Б групе, сматра се да се потребне количине ових витамина могу обезбедити балансираном исхраном и да суплементација у одсуству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ће утицати на спортске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рећу, сем ниацина, који у вишку може смањити физичку издржљивост и чак изазвати оштећење јетре, нежељени ефекти предозирања осталим Б витаминим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стоје или су веома ре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Ц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ома популаран међу спорти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ристан у спорту као антиоксиданс (у препорученој доз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примена витамина Ц у вишку смањује спортске перформансе и може и негативно да утиче на њи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комерна примена витамина Ц, због његових изражених антиоксидативних својстава, онемогућава функцију ендогеног антиоксидационог система зашт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нтролисани унос витамина Ц може имати и штетне последице и по здравље уопште, међу којима се истиче појава оксалатне нефролитијаз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Д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авна истраживања су показала да се дефицит витамина Д веома често среће код спортиста, нарочито жена млађе животне доб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ових жена доводи до мишићне слабости и излаже их значајном ризику од прелома костију током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недовољног уноса витамина Д надокнада је обавезна, посебно у околностима интензивне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предозирање овим витамином неће имати никаквих повољних ефеката на коштани систем, већ напротив може довести д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хиперкалцемиј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ја је нарочито опасна због депресивног дејства на срце и централни нервни сист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итамина 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ак витамина Е онемогућава нормалан раст и изазива мишићну дегенерацију због чега његова примена може да умањи оштећење мишића током напор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тра се да примена витамина Е може да повећа искоришћење кисеоника у току бављења спортом на великим надморским висин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ђутим, истраживања су показала да, слично осталим антиоксидансима, суплементација витамином Е у одсуству већ постојећег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ће имати утицај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спортс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им што може повећати потребе организма за витамином К, други нежељени ефекти предозирања витамином Е до сада нису описа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ЧАЈ МИНЕРАЛА КОД СПОРТИ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трију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628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Дефицит натријума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е издвојио као врло значајан поремећај који је неопходно спречити посебно у дуготрајним спортским активност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ако се током 2-3 сата напорног физичког вежбања, знојењем, може изгубит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Calibri"/>
              </a:rPr>
              <a:t>1,8-5,6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g Na</a:t>
            </a:r>
            <a:r>
              <a:rPr b="0" lang="en-US" sz="2000" spc="-1" strike="noStrike" u="sng" baseline="30000">
                <a:solidFill>
                  <a:srgbClr val="000000"/>
                </a:solidFill>
                <a:uFillTx/>
                <a:latin typeface="Calibri"/>
              </a:rPr>
              <a:t>+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ад садржаја натријума у организму првенствено је резултат профузног знојења, које настаје као резултат вишесатног вежбања и високе спољашње температу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Губитак натријума и пад волумена екстрацелуларног флуида и плазме неповољно утичу на ударни волумен, менталне и физич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Процес аклиматизације на високу температуру и повећање уноса натријума храном (напици) и/или таблетама представљају важне елементе у превенцији овог дефици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лију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атра се да се дневни губици калијума који настају током тренинга у већини спортова могу једноставно надокнадити добро избалансираном ис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портовима, које карактерише издржљивост, као и у условима високе температуре, губитак калијума може бити значајан (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300-800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g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, током 2-3 са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, те је неопходан додатни унос овог минера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УТРИТИВНЕ КАРАКТЕРИСТИК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немају енерегетску вредност за разлику од масти, угљених хидрата и прот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већину витамина организам не може да синтетиш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морају се зато унети хран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потребни су нам у малим количинама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(mg или </a:t>
            </a:r>
            <a:r>
              <a:rPr b="0" i="1" lang="el-GR" sz="2000" spc="-1" strike="noStrike">
                <a:solidFill>
                  <a:srgbClr val="000000"/>
                </a:solidFill>
                <a:latin typeface="Calibri"/>
              </a:rPr>
              <a:t>μ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 тачно дефинисане потр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препоручени дневни унос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DA; recommended daily allow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Резултат слика за vitamini"/>
          <p:cNvPicPr/>
          <p:nvPr/>
        </p:nvPicPr>
        <p:blipFill>
          <a:blip r:embed="rId2"/>
          <a:stretch/>
        </p:blipFill>
        <p:spPr>
          <a:xfrm>
            <a:off x="3132000" y="4581360"/>
            <a:ext cx="270828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магнезију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8360" y="2060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једини стручњаци предлажу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н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нос магнезијума посебно код младих спортиста изложених дуготрајним физичким вежбањ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вакав став резултат је пада концентрације овог минерала у плазми, у првим сатима након вежб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траживања су показала да се 24 сата након завршетка активности, као резултат редистрибуције магнезијума у организму, успостављају нормалне концентрације овог минерала у плаз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име се поставља питање оправданости суплементације магнезијум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гвожђ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05264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 спорту, дефицит гвожђа често се среће код млађих атлетичарки и гимнастичара, пливача, тенисера, кошаркаша и одбојкаша оба п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страживања као разлог наводе недовољан унос путем хране, али и губитак услед прекомерног знојења, обилних менструација, миоглобинурије и хематурије, који се могу јавити као последица напорног трен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колико се код спортисте утврди присуство хипохромне анемије, надокнада суплементима гвожђа у циљу поновног успостављања нормалног нивоа хемоглобина у крви је неопход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постоји само дефицит феритина без присутне анемије, суплементација у циљу попуњавања депоа такође може имати  позитивног утицаја на спортске резулта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дсуству било каквог дефицита, суплементација гвожђе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 не препоручуј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обзиром да неће побољшати спортске перформансе, а у вишку може изазва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ежано пражњење црева и хемохромат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хром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ом у свом тровалентном облику игра значајну улогу у метаболизму масти и угљених хидрата, обзиром да омогућава синтезу холестерола и олакшава преузимање глукозе из крви у ћел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зи се у месу, изнутрицама и житарицама, а његов недостатак може да доведе до резистенције на инсулин, хипохолестеролемије и неуролошких поремећа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је примећено да екстремни физички напори током тренинга могу да повећају излучивање хрома путем урина, то најчешће није праћено развојем дефицита, те надокнада није потреб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плементација хромом у спорту не побољшава снагу ни издржљивост нити утиче на повећање мишићне масе, те се не препоручује 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ебно због склоности да се у организму нагомилава, као и оштећења бубрега, јетре и мишића до којих може да доведе уколико се предози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цинк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ише од половине укупног цинка у организму налази се у мишићима, због чега му се приписује значајна улога у производњи енергије и заштити од оксидационог стреса у току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д спортиста, интензивна физичка активност, нарочито на високим температурама, додатно потенцира дефицит услед губитка из оштећених мишићних ћелија и излучивања знојем и урином, што може изазвати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д телесне тежине, замарање и смањење издржљив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датак цинка се препоручује само уколико постоји дефицит, док у супротном нема назнака да суплементација може побољшати спортске перформанс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ротив, предозирање цинком може да доведе до дефицит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кра, који се манифестује сидеробластном анемиј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Значај концентрациј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елена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од спорти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4842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лен у организму учествује у многим ензимским реакцијама, при чему се нарочит значај придаје његовим антиоксидативним својстви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ази се у месу, јајима и плодовима мора, а његов недостатак изазива оштећење мишића, опадање ћелијског имуног одговора и повећану склоност ка настанку карцино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ако интензивна физичка активност утиче на појачано стварање слободних радикала, мишљења о позитивном утицају суплементације селеном на спортске перформансе су још увек подељ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колико дефицит постоји, додатак селена у исхрани свакако је препоручљи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упротном, треба га примењивати у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ре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јер предозирање може смањити његову заштитну улогу и изазвати алопецију и неуролошке и гастроинтестиналне поремећа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7200" y="1166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ХВАЛА НА ПАЖЊИ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134100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ЛОГЕ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ЗАМЕНЉИВИ БИОЛОШКИ КАТАЛИЗАТОРИ ЋЕЛИЈСКИХ ХЕМИЈСКИХ РЕАКЦИЈА (КОЕНЗИМИ И ПРОСТЕТИЧКЕ ГРУПЕ ЕНЗИМ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СИГУРАВАЈУ ПРАВИЛАН РАД МЕТАБОЛИЗМА, РАСТ И РЕПРОДУКЦ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ОТРЕБНИ СУ ЗА СИНТЕЗУ КОЛАГЕНА И КОСТИЈ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ВАЖНИ У ОДВИЈАЊУ ПРОЦЕСА КОАГУЛАЦИЈЕ КРВ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УЧЕСТВУЈУ У КАТАБОЛИЗМУ ИЛИ АНАБОЛИЗМУ УГЉЕНИХ ХИДРАТА, МАСТИ И ПРОТЕ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ЕОПХОДНИ У ФУНКЦИОНИСАЊУ ВИДА (ФОТОРЕЦЕПТО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*поремећај уноса витамина води у хипо или хипер-витаминоз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амини растворљиви у маст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рисутни у намирницима које садрже м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лабо растворљиви у во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Уносе се у облику еста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аре се под утицајем холестерол-естар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псорбују се у горњим партијама танког црева (проста дифузиј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За апсорпцију неопходне жучне со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лазмом се преносе у облику миц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кладиште се у јетри и масном ткиву (вит. А и Д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тенцијално токсични, посебно витамин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линички знакови недостатка се развијају после више год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400" spc="-1" strike="noStrike">
                <a:solidFill>
                  <a:srgbClr val="000000"/>
                </a:solidFill>
                <a:latin typeface="Calibri"/>
              </a:rPr>
              <a:t>* Апсопрција ових витамина се смањује када се смањи апсорпција масти (недостатак жучних соли и/или холестерол-естараз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360" y="1699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000000"/>
                </a:solidFill>
                <a:uFillTx/>
                <a:latin typeface="Calibri"/>
              </a:rPr>
              <a:t>Витамини растворљиви у во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Добро растворљиви у води (телесним течности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псорбују се у горњим партијама танког црева (изузев вит. Б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т. Б12 се апсорбује у илеуму везивањем са Унутрашњим фактор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ећина се апсорбује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отрансопорт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т. Б12 и Б9 преко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независних транспорте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Вишак се не складишти осим вит. Б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Главна улога – коензими и простетичке групе ензи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линички знакови недостатка се развијају после 6-8 недељ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6836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Људски организам не може у потпуности да искористи све витамине присутне у хра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дређивање количине витамина у намирницама није довољно да се разуме стварна искористљивост витамина из тих намирн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актори који одређују витаминску искористљивост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љн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Унутрашњи факто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26792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пољн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Различити биопотенцијали витамера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ергокалциферол (Д2) је значајно мање активан од холекалциферола (Д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Губици приликом складиштења, прераде или кувања хранљивих матер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количина витамина Ц у кромпиру се смањује на 1/3 током складиштења у трајању од 1 месе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*витамери-скуп различитих хемијских супстанци који сви показуј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сличне биолошке активности као неки витам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(нпр. различити облици витамина А, Д исл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1267920"/>
            <a:ext cx="78710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Физиолошка искористљивост витам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Нутритивни фактори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Фактори који утичу углавном на апсорпцију витами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То су пре свег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- састав оброк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sr-RS" sz="1600" spc="-1" strike="noStrike">
                <a:solidFill>
                  <a:srgbClr val="000000"/>
                </a:solidFill>
                <a:latin typeface="Calibri"/>
              </a:rPr>
              <a:t>- начин исхра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000000"/>
                </a:solidFill>
                <a:latin typeface="Calibri"/>
              </a:rPr>
              <a:t>нпр. Витамин А и провитамин А се слабо апсорбују ако је оброк сиромашан мастима ис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06:32:31Z</dcterms:created>
  <dc:creator>Ivan Srejovic</dc:creator>
  <dc:description/>
  <dc:language>en-US</dc:language>
  <cp:lastModifiedBy>ХХХ</cp:lastModifiedBy>
  <dcterms:modified xsi:type="dcterms:W3CDTF">2020-09-28T12:46:51Z</dcterms:modified>
  <cp:revision>173</cp:revision>
  <dc:subject/>
  <dc:title>ФИЗИОЛОГИЈА КРВИ</dc:title>
</cp:coreProperties>
</file>