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0AF-E769-41CF-85E1-E95BD66C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E8CB-3428-4A9B-9613-05031DD0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2BD-E997-4485-9BF1-EE4A5F98E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B1D1-C263-40F6-9204-2ACFD2DE2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295-C3EC-4CAD-BAB0-00480F45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8B1-16BD-4A03-BFA2-2C75DF30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3F1-3B44-4C04-9509-8114A79D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370-D67C-439A-9FB1-95BCE983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627-D367-4156-9AF2-BCB2F9689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B8B-EB45-4E83-B2C6-1141E6BF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D542-0062-41E4-A707-C98381A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02F8-BB22-4DCC-971B-569DAB5B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438C-0EB7-43C3-B589-5C13511F84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2409480"/>
            <a:ext cx="7772400" cy="42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треба витамина и минерала у спорту. Специфичности примене витаминске и минералне суплементације у односу на пол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старосну доб и врсту спортске актив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вожђе и калцију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6000" y="148392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вожђе и калцијум су означени као минерали који су најчешће дефицитарни код спортиста, јер њихов унос директно зависи од енергетског баланса, и то нарочито код младих спортиста и же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Њихов дефицит директно утиче на смањење спортских способности, поготово ако говоримо о анемији као последици недостатка гвожђ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508720" y="4554360"/>
            <a:ext cx="3316320" cy="2205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36496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итамини и минер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0600" y="2565360"/>
            <a:ext cx="8362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раду под називо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ietary Supplements and Medications in Elite Sport – Polypharmacy or Real Need?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ји је 2009. године Антидопинг агенција Републике Србије објавила у престижном часопис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(Scand J Med Sci Sports)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казано је да су спортисти и тада од свих суплемената највише користили мултивитамине и минерале, и то чак половина њих у групи од преко 900 професионалних домаћих и интернационалних спортис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итамини и минерал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0600" y="1915920"/>
            <a:ext cx="836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утори овог рада су довели у сумњу феномен полифармације и утицај на спортску способн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ључили су, позивајући се на литературу, да коришћење ових мултивитамина и мултиминерала није имало ергоген ефекат код оних спортиста који су имали довољан унос према ПДУ (препоручен дневни унос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и и минера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600" y="1412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ставља се питање зашто спортисти од свих суплемената ипак највише користе мултивитамине и мултиминера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бјашњење можемо наћи у раду који је 2007. године објавио професор Роналд Моган под називом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use of dietary supplements by athlet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моћ у убрзању опоравка наведена је као најчешћи разлог узимања суплемената, са учесталошћу од 71%, испред побољшања спортских перформанси или општег здрављ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ргогено дејство мултивитамина и минерала је очигледно потврђено код спортиста код којих су они били у дефицит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и и минера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90600" y="2060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и и минерали имају значајну функцију у организму и зато њихов недостатак реално може да утиче на спортске способности и да повећа ризик од повред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6000" y="206064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 B витамина је укључен у метаболизам угљених хидрата, протеина и масти, учествује у продукцији енергије током вежбања, утиче на раст ткива, формирање еритроцита, учествује као коензим у многим реакцијама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3726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тамини C и 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6000" y="1844640"/>
            <a:ext cx="8712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тамини C и E спадају међу најважније антиоксидансе у нашем организму, који спречавају штетно дејство слободних радикала, који настају током интензивних тренин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1"/>
          <a:stretch/>
        </p:blipFill>
        <p:spPr>
          <a:xfrm>
            <a:off x="155520" y="4005360"/>
            <a:ext cx="3895920" cy="2647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405468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инера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0600" y="907920"/>
            <a:ext cx="836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нерали учествују 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шићним контракција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ичу на срчани рад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ровођење нервних импул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порт кисеон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ствују у оксидативној фосфорилациј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нзимској активациј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билности имуног систем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мају антиоксидативне функциј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тичу на стабилност костиј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 algn="just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цидобазну равнотежу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Минер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06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што су ови процеси појачаног интензитета током физичке активности, логично је да минерали значајно утичу на спортске способ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х</cp:lastModifiedBy>
  <dcterms:modified xsi:type="dcterms:W3CDTF">2018-11-06T20:17:11Z</dcterms:modified>
  <cp:revision>63</cp:revision>
  <dc:subject/>
  <dc:title>Демијелинизационе болести Мијастенија гравис</dc:title>
</cp:coreProperties>
</file>